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6.jpeg" ContentType="image/jpeg"/>
  <Override PartName="/ppt/media/image5.jpeg" ContentType="image/jpeg"/>
  <Override PartName="/ppt/media/image11.wmf" ContentType="image/x-wmf"/>
  <Override PartName="/ppt/media/image17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8.png" ContentType="image/png"/>
  <Override PartName="/ppt/media/image7.jpeg" ContentType="image/jpeg"/>
  <Override PartName="/ppt/media/image13.jpeg" ContentType="image/jpeg"/>
  <Override PartName="/ppt/media/image6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9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3023-BF0F-4D91-A974-0D03E3ABF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62AF-585E-4871-B44B-9ACD5CBF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C490-C4FB-4474-80D7-C5EDC0F4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62DA-AD06-46F5-8545-747A7FA94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82E-A479-40AF-814C-4D1CA8C1C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08F6-F966-4548-8D44-A6D42D70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BBD27-2620-4D66-AEFE-B4EFA794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DA72-5605-4356-BB1F-43366D8E8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326A-85A9-4DC0-83DC-4E90FE10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4AE-669A-41BD-80B6-2FD086FD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BF02-49B8-4E8F-A6A2-FABF2976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2391-9B45-446B-BB06-B34329DD1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7A46F-1D6C-479F-AABD-956EB3EA82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 txBox="1"/>
          <p:nvPr/>
        </p:nvSpPr>
        <p:spPr>
          <a:xfrm>
            <a:off x="2050920" y="476280"/>
            <a:ext cx="310068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Сватбата</a:t>
            </a:r>
            <a:endParaRPr b="0" i="1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на</a:t>
            </a:r>
            <a:endParaRPr b="0" i="1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Агнето</a:t>
            </a:r>
            <a:endParaRPr b="0" i="1" lang="en-US" sz="1800" spc="1" strike="noStrike">
              <a:ln w="19080">
                <a:solidFill>
                  <a:srgbClr val="ff99cc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4" name=""/>
          <p:cNvSpPr/>
          <p:nvPr/>
        </p:nvSpPr>
        <p:spPr>
          <a:xfrm>
            <a:off x="5651640" y="0"/>
            <a:ext cx="720720" cy="6858000"/>
          </a:xfrm>
          <a:prstGeom prst="rect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50000">
                <a:srgbClr val="ffffff">
                  <a:alpha val="80392"/>
                </a:srgbClr>
              </a:gs>
              <a:gs pos="100000">
                <a:srgbClr val="bbe0e3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 txBox="1"/>
          <p:nvPr/>
        </p:nvSpPr>
        <p:spPr>
          <a:xfrm>
            <a:off x="442764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9:7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716360" y="2421000"/>
            <a:ext cx="394344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Нека се радваме и с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еселим и нека отдадем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го слава; защото дойд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ватбата на Агнеца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говата жена се 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готвил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144360" y="2890800"/>
            <a:ext cx="2195640" cy="2050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Георг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Фридри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Хендел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74" name=""/>
          <p:cNvSpPr/>
          <p:nvPr/>
        </p:nvSpPr>
        <p:spPr>
          <a:xfrm>
            <a:off x="2446200" y="0"/>
            <a:ext cx="6697800" cy="6858000"/>
          </a:xfrm>
          <a:prstGeom prst="rect">
            <a:avLst/>
          </a:prstGeom>
          <a:blipFill rotWithShape="0">
            <a:blip r:embed="rId2">
              <a:alphaModFix amt="20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921120" y="5981760"/>
            <a:ext cx="497196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Оратория "Месия"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6372360" y="260280"/>
            <a:ext cx="2430360" cy="324000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</p:spTree>
  </p:cSld>
  <p:transition>
    <p:dissolv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2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05092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9:7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9640" y="2205000"/>
            <a:ext cx="3943440" cy="2171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Нека се радваме и с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еселим и нека отдадем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го слава; защото дойд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ватбата на Агнеца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говата жена се 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готвил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 txBox="1"/>
          <p:nvPr/>
        </p:nvSpPr>
        <p:spPr>
          <a:xfrm>
            <a:off x="205092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9:8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9640" y="2205000"/>
            <a:ext cx="380052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на нея и бе позволен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 се облече в светъл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ист висон; защо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исонът са праведн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ела на светиит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2050920" y="836640"/>
            <a:ext cx="2400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9: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9640" y="2205000"/>
            <a:ext cx="4105440" cy="2171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ми каза: Напиши: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лажени тези, които с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канени на сватбена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ечеря на Агнеца. И м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аза: Тези думи са истинн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ожии дум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42764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00720" y="2421000"/>
            <a:ext cx="4257360" cy="2895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Тогава дойде един о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едемте ангела, кои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яха натоварени със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едемте последни язв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държаха седемте чаш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 ми заговори, като каза: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ла ще ти покажа невестат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жената на Агнец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4427640" y="836640"/>
            <a:ext cx="257148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21:1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986360" y="2421000"/>
            <a:ext cx="376236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ме отведе чрез Дух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една голяма и висок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ланина и ми показ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ветия град Йерусалим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йто слизаше от небет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Бог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2556000" y="784080"/>
            <a:ext cx="1409400" cy="3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сия 2:1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324000" y="2276640"/>
            <a:ext cx="396216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Ще те сгодя за Себ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и завинаги. Да!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е сгода за Себе С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 правда и правосъдие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 милосърдие и милост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2556000" y="784080"/>
            <a:ext cx="1409400" cy="330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сия 2:2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24000" y="2276640"/>
            <a:ext cx="3200400" cy="1085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Ще те сгодя за Себ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и във вярност; и щ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знеш Господ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552680" y="784080"/>
            <a:ext cx="141912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Йоан 3:2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95280" y="1989000"/>
            <a:ext cx="3019320" cy="361980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Младоженецът е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йто има невяст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 приятелят на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ладоженеца, кой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тои и го слуша, с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радва твърде мног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ради гласа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ладоженеца;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така тази мо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радост е пълн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2484360" y="835200"/>
            <a:ext cx="2067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 Петрово 1:18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395280" y="1989000"/>
            <a:ext cx="2924280" cy="253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Като знаете, че н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 преходни неща -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ребро или злат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те изкупени о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уетния живот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едаден ви о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ащите в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 txBox="1"/>
          <p:nvPr/>
        </p:nvSpPr>
        <p:spPr>
          <a:xfrm>
            <a:off x="2484360" y="835200"/>
            <a:ext cx="2067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I Петрово 1:19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95280" y="1989000"/>
            <a:ext cx="349560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А със скъпоценна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ръв на Христос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ато на агнец - без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достатък и пречист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2340000" y="835200"/>
            <a:ext cx="1790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наил 7:1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47760" y="2133720"/>
            <a:ext cx="415296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Гледах в нощните видени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, ето, един като Човешк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ин идеше с небесн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блаци и стигна до Стари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 дни; и го доведох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ед Него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 txBox="1"/>
          <p:nvPr/>
        </p:nvSpPr>
        <p:spPr>
          <a:xfrm>
            <a:off x="2340000" y="835200"/>
            <a:ext cx="17906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анаил 7:1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95280" y="1758960"/>
            <a:ext cx="3219480" cy="4702320"/>
            <a:chOff x="395280" y="1758960"/>
            <a:chExt cx="3219480" cy="4702320"/>
          </a:xfrm>
        </p:grpSpPr>
        <p:sp>
          <p:nvSpPr>
            <p:cNvPr id="113" name=""/>
            <p:cNvSpPr txBox="1"/>
            <p:nvPr/>
          </p:nvSpPr>
          <p:spPr>
            <a:xfrm>
              <a:off x="395280" y="1758960"/>
              <a:ext cx="3191040" cy="25336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" И на Него бе дадено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владичеството, слав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и цараство, за да Му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слугуват всички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племена, народи и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езици. Неговото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14" name=""/>
            <p:cNvSpPr txBox="1"/>
            <p:nvPr/>
          </p:nvSpPr>
          <p:spPr>
            <a:xfrm>
              <a:off x="395280" y="4508640"/>
              <a:ext cx="3219480" cy="195264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владичество е вечно -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то няма да премине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и царството Му е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царство, което ням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да се разруши. "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dissolv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2340000" y="853920"/>
            <a:ext cx="15620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Лука 12:3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47760" y="2133720"/>
            <a:ext cx="3762360" cy="1085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Кръстът ви да бъд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епасан и светилниц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и запален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 txBox="1"/>
          <p:nvPr/>
        </p:nvSpPr>
        <p:spPr>
          <a:xfrm>
            <a:off x="2340000" y="853920"/>
            <a:ext cx="1562040" cy="362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Лука 12:36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347760" y="2133720"/>
            <a:ext cx="3457440" cy="253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самите вие д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иличате на човеци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ито чакат господар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и, когато се върн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сватба, за да му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ворят незабавн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щом дойде и похлоп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2146320" y="855720"/>
            <a:ext cx="2571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9:10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376200" y="2205000"/>
            <a:ext cx="4286160" cy="3826080"/>
            <a:chOff x="376200" y="2205000"/>
            <a:chExt cx="4286160" cy="3826080"/>
          </a:xfrm>
        </p:grpSpPr>
        <p:sp>
          <p:nvSpPr>
            <p:cNvPr id="124" name=""/>
            <p:cNvSpPr txBox="1"/>
            <p:nvPr/>
          </p:nvSpPr>
          <p:spPr>
            <a:xfrm>
              <a:off x="395280" y="2205000"/>
              <a:ext cx="3809880" cy="180972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" Тогава аз паднах пред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краката му, за да му се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поклоня, но той ми каза: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Недей, аз съм служител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заедно с теб и братята ти,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125" name=""/>
            <p:cNvSpPr txBox="1"/>
            <p:nvPr/>
          </p:nvSpPr>
          <p:spPr>
            <a:xfrm>
              <a:off x="376200" y="4221000"/>
              <a:ext cx="4286160" cy="18100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които имат свидетелството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за Исус; поклони се н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Бога, защото свидетелството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за Исус е духът на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Arial Black"/>
                </a:rPr>
                <a:t>пророчеството. "</a:t>
              </a:r>
              <a:endPara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  <a:ea typeface="Arial Black"/>
              </a:endParaRPr>
            </a:p>
          </p:txBody>
        </p:sp>
      </p:grpSp>
    </p:spTree>
  </p:cSld>
  <p:transition>
    <p:dissolv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3492360" y="5027760"/>
            <a:ext cx="2114640" cy="67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3240">
                  <a:solidFill>
                    <a:srgbClr val="ffff66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Ангелите</a:t>
            </a:r>
            <a:endParaRPr b="1" i="1" lang="en-US" sz="4400" spc="1" strike="noStrike">
              <a:ln w="3240">
                <a:solidFill>
                  <a:srgbClr val="ffff66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 txBox="1"/>
          <p:nvPr/>
        </p:nvSpPr>
        <p:spPr>
          <a:xfrm>
            <a:off x="2257560" y="5122800"/>
            <a:ext cx="541008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3240">
                  <a:solidFill>
                    <a:srgbClr val="ffff99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Извънземни цивилизации</a:t>
            </a:r>
            <a:endParaRPr b="1" i="1" lang="en-US" sz="4400" spc="1" strike="noStrike">
              <a:ln w="3240">
                <a:solidFill>
                  <a:srgbClr val="ffff99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0" y="5229360"/>
            <a:ext cx="914400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93300">
                  <a:alpha val="80392"/>
                </a:srgbClr>
              </a:gs>
              <a:gs pos="100000">
                <a:srgbClr val="ffffff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565600" y="5254560"/>
            <a:ext cx="2391120" cy="67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3240">
                  <a:solidFill>
                    <a:srgbClr val="ffff66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Пророците</a:t>
            </a:r>
            <a:endParaRPr b="1" i="1" lang="en-US" sz="4400" spc="1" strike="noStrike">
              <a:ln w="3240">
                <a:solidFill>
                  <a:srgbClr val="ffff66"/>
                </a:solidFill>
                <a:miter/>
              </a:ln>
              <a:solidFill>
                <a:srgbClr val="ffff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0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4032000" cy="3024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2484360" y="1700280"/>
            <a:ext cx="4064040" cy="304776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4788000" y="3500280"/>
            <a:ext cx="4064040" cy="3048120"/>
          </a:xfrm>
          <a:prstGeom prst="rect">
            <a:avLst/>
          </a:prstGeom>
          <a:ln w="38160">
            <a:solidFill>
              <a:srgbClr val="ffff99"/>
            </a:solidFill>
            <a:miter/>
          </a:ln>
        </p:spPr>
      </p:pic>
      <p:pic>
        <p:nvPicPr>
          <p:cNvPr id="50" name="" descr="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2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2935440" y="835200"/>
            <a:ext cx="20001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фесяни 4:1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95280" y="2133720"/>
            <a:ext cx="327672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Той даде едни д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ъдат апостоли, друг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ороци, други пък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лаговестители, 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руги пастири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чител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935440" y="835200"/>
            <a:ext cx="20001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фесяни 4:1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95280" y="2133720"/>
            <a:ext cx="2571840" cy="253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За делото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уженето, з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зиданието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Христовото тяло, 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 цел да с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съвършенства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ветиит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2935440" y="835200"/>
            <a:ext cx="20001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Ефесяни 4:1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95280" y="2133720"/>
            <a:ext cx="3381480" cy="32572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Докато всичк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достигнем в единств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вярата и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знаването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ожия Син, в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ълнолетно мъжеств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 мярката на ръста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Христовата пълнот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979640" y="855720"/>
            <a:ext cx="257184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2:17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95280" y="2205000"/>
            <a:ext cx="4010040" cy="2895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Тогава змеят се разяр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отив жената и отиде д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оюва против останал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нейното потомство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ито пазят Божи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поведи и свидетелство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а Исус; и змеят заста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морския пясък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5400000">
            <a:off x="4220640" y="1935000"/>
            <a:ext cx="6858000" cy="2987640"/>
          </a:xfrm>
          <a:prstGeom prst="rect">
            <a:avLst/>
          </a:prstGeom>
          <a:gradFill rotWithShape="0">
            <a:gsLst>
              <a:gs pos="0">
                <a:srgbClr val="ffff99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564000" y="333360"/>
            <a:ext cx="4968720" cy="25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1" strike="noStrike">
                <a:ln w="0">
                  <a:noFill/>
                </a:ln>
                <a:solidFill>
                  <a:srgbClr val="ffffff">
                    <a:alpha val="20000"/>
                  </a:srgbClr>
                </a:solidFill>
                <a:latin typeface="Monotype Corsiva"/>
              </a:rPr>
              <a:t>Елън Уайт</a:t>
            </a:r>
            <a:endParaRPr b="0" i="1" lang="en-US" sz="7200" spc="1" strike="noStrike">
              <a:ln w="0">
                <a:noFill/>
              </a:ln>
              <a:solidFill>
                <a:srgbClr val="ffffff">
                  <a:alpha val="20000"/>
                </a:srgbClr>
              </a:solidFill>
              <a:latin typeface="Monotype Corsiva"/>
              <a:ea typeface="Monotype Corsiv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5905440" y="2708280"/>
            <a:ext cx="30592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Елън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  </a:t>
            </a: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Уайт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6445080" y="5805360"/>
            <a:ext cx="2448000" cy="542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</a:rPr>
              <a:t>/ 1827 - 1915 /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</p:spTree>
  </p:cSld>
  <p:transition>
    <p:dissolve/>
  </p:transition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0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2268360" y="836640"/>
            <a:ext cx="181008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салом 96: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9640" y="1981080"/>
            <a:ext cx="2838600" cy="14479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Пейте на Господ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ова песен, пей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Господа, всичк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зем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 txBox="1"/>
          <p:nvPr/>
        </p:nvSpPr>
        <p:spPr>
          <a:xfrm>
            <a:off x="2268360" y="836640"/>
            <a:ext cx="181008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салом 96: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9640" y="1981080"/>
            <a:ext cx="3124440" cy="21718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Пейте на Господа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лагославяйте име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у, благовествай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 ден в ден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звършеното о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его избавлени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 txBox="1"/>
          <p:nvPr/>
        </p:nvSpPr>
        <p:spPr>
          <a:xfrm>
            <a:off x="2268360" y="836640"/>
            <a:ext cx="1810080" cy="29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салом 96: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539640" y="1981080"/>
            <a:ext cx="308628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Възвестявай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ежду народ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авата Му, между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сички племена -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удесните Му дел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fill="hold">
                      <p:stCondLst>
                        <p:cond delay="0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9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 txBox="1"/>
          <p:nvPr/>
        </p:nvSpPr>
        <p:spPr>
          <a:xfrm>
            <a:off x="442764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9:1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716360" y="2421000"/>
            <a:ext cx="417204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След това чух като че л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илен глас от голям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ножество на небето, кой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азваше: Алилуя! Спасение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ава и сила принадлежа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нашия Бог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 txBox="1"/>
          <p:nvPr/>
        </p:nvSpPr>
        <p:spPr>
          <a:xfrm>
            <a:off x="2268360" y="835200"/>
            <a:ext cx="310536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едва: 20 февруар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82480" y="2732040"/>
            <a:ext cx="3370320" cy="2641680"/>
            <a:chOff x="582480" y="2732040"/>
            <a:chExt cx="3370320" cy="2641680"/>
          </a:xfrm>
        </p:grpSpPr>
        <p:sp>
          <p:nvSpPr>
            <p:cNvPr id="164" name=""/>
            <p:cNvSpPr txBox="1"/>
            <p:nvPr/>
          </p:nvSpPr>
          <p:spPr>
            <a:xfrm>
              <a:off x="1116000" y="3068640"/>
              <a:ext cx="2836800" cy="2305080"/>
            </a:xfrm>
            <a:prstGeom prst="rect">
              <a:avLst/>
            </a:prstGeom>
          </p:spPr>
          <p:txBody>
            <a:bodyPr wrap="none" lIns="90000" rIns="90000" tIns="46800" bIns="46800" anchor="t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арят иде за</a:t>
              </a:r>
              <a:endPara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страшната</a:t>
              </a:r>
              <a:endPara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4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99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вечеря</a:t>
              </a:r>
              <a:endParaRPr b="0" i="1" lang="en-US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582480" y="2732040"/>
              <a:ext cx="619200" cy="1114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7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effectLst>
                    <a:outerShdw dist="17819" dir="2700000" blurRad="0" rotWithShape="0">
                      <a:srgbClr val="808080">
                        <a:alpha val="80000"/>
                      </a:srgbClr>
                    </a:outerShdw>
                  </a:effectLst>
                  <a:latin typeface="Monotype Corsiva"/>
                </a:rPr>
                <a:t>Ц</a:t>
              </a:r>
              <a:endParaRPr b="0" i="1" lang="en-US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Monotype Corsiva"/>
                <a:ea typeface="Monotype Corsiva"/>
              </a:endParaRPr>
            </a:p>
          </p:txBody>
        </p:sp>
      </p:grpSp>
    </p:spTree>
  </p:cSld>
  <p:transition>
    <p:dissolve/>
  </p:transition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0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42764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9:2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716360" y="2421000"/>
            <a:ext cx="4343400" cy="28954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Защото са истинни 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раведни Неговите присъди;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неже Той осъди велика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лудница, която с блудство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и е донесла разложени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 земята, и даде върху нея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ъзмездие за кръвта н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воите слуги.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42764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9:3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716360" y="2421000"/>
            <a:ext cx="3857760" cy="108576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втори път казаха: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лилуя! И димът от нея с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издига до вечни векове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442764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9:4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716360" y="2421000"/>
            <a:ext cx="4267440" cy="2171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двадесет и четиримата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тарейшини и четири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живи същества паднаха и с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поклониха на Бога, Кой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еди на престола, и казаха: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Амин! Алилуя!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442764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9:5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716360" y="2421000"/>
            <a:ext cx="4210200" cy="1809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от престола излезе глас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ойто казваше: Хвалет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нашия Бог, всички Негови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луги, вие, които Му се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боите, малки и големи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427640" y="836640"/>
            <a:ext cx="2400120" cy="36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ткровение 19:6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716360" y="2421000"/>
            <a:ext cx="4000680" cy="253368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" И чух като глас от голям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ножество и като глас о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много води, и като глас от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силни гръмотевици, кои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казваха: Алилуя! Защото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Господ, нашия Бог,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Всемогъщия царува. "</a:t>
            </a:r>
            <a:endParaRPr b="0" i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dissolv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4T11:47:27Z</dcterms:created>
  <dc:creator>The Mind</dc:creator>
  <dc:description/>
  <dc:language>en-US</dc:language>
  <cp:lastModifiedBy>Vlady</cp:lastModifiedBy>
  <dcterms:modified xsi:type="dcterms:W3CDTF">2005-02-13T15:58:38Z</dcterms:modified>
  <cp:revision>13</cp:revision>
  <dc:subject/>
  <dc:title>Slide 1</dc:title>
</cp:coreProperties>
</file>